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camera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3"/>
          <p:cNvSpPr/>
          <p:nvPr/>
        </p:nvSpPr>
        <p:spPr>
          <a:xfrm>
            <a:off x="214200" y="2286000"/>
            <a:ext cx="8929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2057400" indent="-228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ње и стру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авршавање кадрова за здравствену не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чин израде планова за стручно усавршав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ионални и савремени модели усаврша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Audio 2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3000">
    <p:pull dir="d"/>
    <p:sndAc>
      <p:stSnd>
        <p:snd r:embed="rId2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714240" y="928800"/>
            <a:ext cx="7572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У ОБРАЗОВАЊУ МЕДИЦИНСКИХ СЕСТ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ност у образовању, у струци, до универзитетског нивоа (до скора у свом образовању сестре користиле заобилазне путев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редмет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а нег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 Нега болесника (јасно се шире грани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ручнику СЗО процес здравствене неге је прихваћен као водећа метода (од 1986.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сестр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де нове програм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бласти здравствене неге ...”Животне поуке о здрављу мајке и детета”...”Телефоном до савета за здраво и неговано одојче”...”Како живети са карциномом”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48000">
    <p:pull dir="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2"/>
          <p:cNvSpPr/>
          <p:nvPr/>
        </p:nvSpPr>
        <p:spPr>
          <a:xfrm>
            <a:off x="642960" y="1643040"/>
            <a:ext cx="757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 ОД ДЕФИНЦИЈА ЗДРАВСТВЕНЕ НЕГЕ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 једно подсећ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превасходна функција медицинске сестре ј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помогне човек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олеснику или здравом у обављању активности које доприносе здрављу, оздрављењу или мирној смрти, које би он радио без туђе помоћи када би имао потребну снагу, вољу и знањ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24000">
    <p:pull dir="d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3"/>
          <p:cNvSpPr/>
          <p:nvPr/>
        </p:nvSpPr>
        <p:spPr>
          <a:xfrm>
            <a:off x="500040" y="1428840"/>
            <a:ext cx="8286840" cy="414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428840" y="2428920"/>
            <a:ext cx="142884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Љ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3714840" y="2428920"/>
            <a:ext cx="142884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6072120" y="2428920"/>
            <a:ext cx="1428840" cy="3682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ИР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428840" y="3214800"/>
            <a:ext cx="1428840" cy="36828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У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3500280" y="3214800"/>
            <a:ext cx="18576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ДРАВЉ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000840" y="3214800"/>
            <a:ext cx="157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НА СМР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3786120" y="4214880"/>
            <a:ext cx="142884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Н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Н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own Arrow 12"/>
          <p:cNvSpPr/>
          <p:nvPr/>
        </p:nvSpPr>
        <p:spPr>
          <a:xfrm>
            <a:off x="2000160" y="2786040"/>
            <a:ext cx="46080" cy="42876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wn Arrow 13"/>
          <p:cNvSpPr/>
          <p:nvPr/>
        </p:nvSpPr>
        <p:spPr>
          <a:xfrm>
            <a:off x="4357800" y="2786040"/>
            <a:ext cx="71280" cy="4287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Down Arrow 14"/>
          <p:cNvSpPr/>
          <p:nvPr/>
        </p:nvSpPr>
        <p:spPr>
          <a:xfrm>
            <a:off x="6786720" y="2786040"/>
            <a:ext cx="45720" cy="428760"/>
          </a:xfrm>
          <a:prstGeom prst="downArrow">
            <a:avLst>
              <a:gd name="adj1" fmla="val 50000"/>
              <a:gd name="adj2" fmla="val 5036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51"/>
          <p:cNvSpPr/>
          <p:nvPr/>
        </p:nvSpPr>
        <p:spPr>
          <a:xfrm>
            <a:off x="838080" y="3387600"/>
            <a:ext cx="3143520" cy="1575000"/>
          </a:xfrm>
          <a:custGeom>
            <a:avLst/>
            <a:gdLst/>
            <a:ahLst/>
            <a:rect l="l" t="t" r="r" b="b"/>
            <a:pathLst>
              <a:path w="3142785" h="1574181">
                <a:moveTo>
                  <a:pt x="3142785" y="1574181"/>
                </a:moveTo>
                <a:cubicBezTo>
                  <a:pt x="2584295" y="1531434"/>
                  <a:pt x="2025805" y="1488688"/>
                  <a:pt x="1581615" y="1362308"/>
                </a:cubicBezTo>
                <a:cubicBezTo>
                  <a:pt x="1137425" y="1235928"/>
                  <a:pt x="737839" y="1020337"/>
                  <a:pt x="477644" y="815898"/>
                </a:cubicBezTo>
                <a:cubicBezTo>
                  <a:pt x="217449" y="611459"/>
                  <a:pt x="0" y="271346"/>
                  <a:pt x="20444" y="135673"/>
                </a:cubicBezTo>
                <a:cubicBezTo>
                  <a:pt x="40888" y="0"/>
                  <a:pt x="600307" y="1859"/>
                  <a:pt x="600307" y="1859"/>
                </a:cubicBezTo>
                <a:lnTo>
                  <a:pt x="600307" y="1859"/>
                </a:lnTo>
              </a:path>
            </a:pathLst>
          </a:custGeom>
          <a:noFill/>
          <a:ln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52"/>
          <p:cNvSpPr/>
          <p:nvPr/>
        </p:nvSpPr>
        <p:spPr>
          <a:xfrm>
            <a:off x="1150920" y="3400560"/>
            <a:ext cx="2808360" cy="1249200"/>
          </a:xfrm>
          <a:custGeom>
            <a:avLst/>
            <a:gdLst/>
            <a:ahLst/>
            <a:rect l="l" t="t" r="r" b="b"/>
            <a:pathLst>
              <a:path w="2808249" h="1248937">
                <a:moveTo>
                  <a:pt x="2808249" y="1248937"/>
                </a:moveTo>
                <a:cubicBezTo>
                  <a:pt x="2263697" y="1206190"/>
                  <a:pt x="1719146" y="1163444"/>
                  <a:pt x="1291683" y="1048215"/>
                </a:cubicBezTo>
                <a:cubicBezTo>
                  <a:pt x="864220" y="932986"/>
                  <a:pt x="457200" y="700668"/>
                  <a:pt x="243468" y="557561"/>
                </a:cubicBezTo>
                <a:cubicBezTo>
                  <a:pt x="29736" y="414454"/>
                  <a:pt x="0" y="282498"/>
                  <a:pt x="9293" y="189571"/>
                </a:cubicBezTo>
                <a:cubicBezTo>
                  <a:pt x="18586" y="96644"/>
                  <a:pt x="158905" y="48322"/>
                  <a:pt x="299225" y="0"/>
                </a:cubicBezTo>
              </a:path>
            </a:pathLst>
          </a:custGeom>
          <a:noFill/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3"/>
          <p:cNvSpPr/>
          <p:nvPr/>
        </p:nvSpPr>
        <p:spPr>
          <a:xfrm>
            <a:off x="3181320" y="3468600"/>
            <a:ext cx="811080" cy="925560"/>
          </a:xfrm>
          <a:custGeom>
            <a:avLst/>
            <a:gdLst/>
            <a:ahLst/>
            <a:rect l="l" t="t" r="r" b="b"/>
            <a:pathLst>
              <a:path w="810323" h="925551">
                <a:moveTo>
                  <a:pt x="810323" y="925551"/>
                </a:moveTo>
                <a:cubicBezTo>
                  <a:pt x="490654" y="701597"/>
                  <a:pt x="170986" y="477644"/>
                  <a:pt x="85493" y="323386"/>
                </a:cubicBezTo>
                <a:cubicBezTo>
                  <a:pt x="0" y="169128"/>
                  <a:pt x="148683" y="84564"/>
                  <a:pt x="297366" y="0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54"/>
          <p:cNvSpPr/>
          <p:nvPr/>
        </p:nvSpPr>
        <p:spPr>
          <a:xfrm>
            <a:off x="2930400" y="3409920"/>
            <a:ext cx="1006560" cy="1228680"/>
          </a:xfrm>
          <a:custGeom>
            <a:avLst/>
            <a:gdLst/>
            <a:ahLst/>
            <a:rect l="l" t="t" r="r" b="b"/>
            <a:pathLst>
              <a:path w="1005468" h="1228492">
                <a:moveTo>
                  <a:pt x="1005468" y="1228492"/>
                </a:moveTo>
                <a:cubicBezTo>
                  <a:pt x="638407" y="1005468"/>
                  <a:pt x="271346" y="782444"/>
                  <a:pt x="135673" y="592873"/>
                </a:cubicBezTo>
                <a:cubicBezTo>
                  <a:pt x="0" y="403302"/>
                  <a:pt x="118946" y="182136"/>
                  <a:pt x="191429" y="91068"/>
                </a:cubicBezTo>
                <a:cubicBezTo>
                  <a:pt x="263912" y="0"/>
                  <a:pt x="570571" y="46463"/>
                  <a:pt x="570571" y="46463"/>
                </a:cubicBezTo>
                <a:lnTo>
                  <a:pt x="570571" y="46463"/>
                </a:lnTo>
              </a:path>
            </a:pathLst>
          </a:custGeom>
          <a:noFill/>
          <a:ln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56"/>
          <p:cNvSpPr/>
          <p:nvPr/>
        </p:nvSpPr>
        <p:spPr>
          <a:xfrm>
            <a:off x="3943440" y="3317760"/>
            <a:ext cx="2055600" cy="1032120"/>
          </a:xfrm>
          <a:custGeom>
            <a:avLst/>
            <a:gdLst/>
            <a:ahLst/>
            <a:rect l="l" t="t" r="r" b="b"/>
            <a:pathLst>
              <a:path w="2055541" h="1031488">
                <a:moveTo>
                  <a:pt x="48322" y="1031488"/>
                </a:moveTo>
                <a:cubicBezTo>
                  <a:pt x="24161" y="832624"/>
                  <a:pt x="0" y="633761"/>
                  <a:pt x="282497" y="529683"/>
                </a:cubicBezTo>
                <a:cubicBezTo>
                  <a:pt x="564994" y="425605"/>
                  <a:pt x="1464527" y="485078"/>
                  <a:pt x="1743307" y="407019"/>
                </a:cubicBezTo>
                <a:cubicBezTo>
                  <a:pt x="2022088" y="328961"/>
                  <a:pt x="1903141" y="122664"/>
                  <a:pt x="1955180" y="61332"/>
                </a:cubicBezTo>
                <a:cubicBezTo>
                  <a:pt x="2007219" y="0"/>
                  <a:pt x="2031380" y="19514"/>
                  <a:pt x="2055541" y="3902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Audio 2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9000">
    <p:pull dir="d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642960" y="1643040"/>
            <a:ext cx="757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ОД ПРИНЦИПА ЗДРАВСТВЕНЕ НЕ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континуираног усавршавања медиицнских сестара и осавремењавања не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овезивања теорије и праксе (неопходност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ости водећих сестар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стварању услова за приме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истематичности и поступности (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ођење млађих сестара у поса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познатог ка непозн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лакшег ка теж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једноставнијег ка сложе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ближег ка даљ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4000">
    <p:pull dir="d"/>
    <p:sndAc>
      <p:stSnd>
        <p:snd r:embed="rId2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Oval 1"/>
          <p:cNvSpPr/>
          <p:nvPr/>
        </p:nvSpPr>
        <p:spPr>
          <a:xfrm>
            <a:off x="1714680" y="1214280"/>
            <a:ext cx="5214600" cy="4857840"/>
          </a:xfrm>
          <a:prstGeom prst="ellipse">
            <a:avLst/>
          </a:prstGeom>
          <a:solidFill>
            <a:srgbClr val="ffff00">
              <a:alpha val="31000"/>
            </a:srgbClr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3"/>
          <p:cNvSpPr/>
          <p:nvPr/>
        </p:nvSpPr>
        <p:spPr>
          <a:xfrm>
            <a:off x="2000160" y="2500200"/>
            <a:ext cx="2357640" cy="13575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5"/>
          <p:cNvSpPr/>
          <p:nvPr/>
        </p:nvSpPr>
        <p:spPr>
          <a:xfrm flipH="1">
            <a:off x="4357440" y="2428200"/>
            <a:ext cx="2214360" cy="1428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7"/>
          <p:cNvSpPr/>
          <p:nvPr/>
        </p:nvSpPr>
        <p:spPr>
          <a:xfrm>
            <a:off x="4357800" y="3857760"/>
            <a:ext cx="71280" cy="2143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42920" y="85716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ска дистрибуција радних активности водеће медицинске се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9"/>
          <p:cNvSpPr/>
          <p:nvPr/>
        </p:nvSpPr>
        <p:spPr>
          <a:xfrm>
            <a:off x="3429000" y="20718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и 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0"/>
          <p:cNvSpPr/>
          <p:nvPr/>
        </p:nvSpPr>
        <p:spPr>
          <a:xfrm>
            <a:off x="2214720" y="385776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на а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4572000" y="392904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и посл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Audio 4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4000">
    <p:pull dir="d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val 1"/>
          <p:cNvSpPr/>
          <p:nvPr/>
        </p:nvSpPr>
        <p:spPr>
          <a:xfrm>
            <a:off x="1714680" y="1214280"/>
            <a:ext cx="5214600" cy="4857840"/>
          </a:xfrm>
          <a:prstGeom prst="ellipse">
            <a:avLst/>
          </a:prstGeom>
          <a:blipFill rotWithShape="0">
            <a:blip r:embed="rId1">
              <a:alphaModFix amt="56000"/>
            </a:blip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3"/>
          <p:cNvSpPr/>
          <p:nvPr/>
        </p:nvSpPr>
        <p:spPr>
          <a:xfrm>
            <a:off x="3714840" y="1285920"/>
            <a:ext cx="642960" cy="2571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5"/>
          <p:cNvSpPr/>
          <p:nvPr/>
        </p:nvSpPr>
        <p:spPr>
          <a:xfrm flipH="1">
            <a:off x="4357440" y="1285920"/>
            <a:ext cx="571320" cy="2571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7"/>
          <p:cNvSpPr/>
          <p:nvPr/>
        </p:nvSpPr>
        <p:spPr>
          <a:xfrm flipH="1" flipV="1">
            <a:off x="1714680" y="3357360"/>
            <a:ext cx="264312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142920" y="85716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ска дистрибуција радних активности водеће медицинске сес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9"/>
          <p:cNvSpPr/>
          <p:nvPr/>
        </p:nvSpPr>
        <p:spPr>
          <a:xfrm>
            <a:off x="3786120" y="1428840"/>
            <a:ext cx="107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2000160" y="242892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на а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4572000" y="392904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и посл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Audio 4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d"/>
    <p:sndAc>
      <p:stSnd>
        <p:snd r:embed="rId3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642960" y="1643040"/>
            <a:ext cx="75722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СКО РЕГУЛИСАЊЕ СЕСТРИН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садржаји из нацрта закона/уредбе/правилника о сестринству испред Радне групе за здравствену негу (2007. г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 СЕСТРИНСТВА - ...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 професиј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је услуге варирају од обичних, рутинских и мануелних радњи до активности које изускују висок степен стручних знања и вештина, способност критичког мишљења расуђивања у примени научних принципа и избора најадекватнијих мера у датом тренутку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udio 2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1000">
    <p:pull dir="d"/>
    <p:sndAc>
      <p:stSnd>
        <p:snd r:embed="rId2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000080" y="1571760"/>
            <a:ext cx="75726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РШИОЦИ СЕСТРИНСКЕ ДЕЛАТНОСТ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стент сестре (бабиц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ени технич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а сес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пломирана баб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јалиста за поједина подручја сестрин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5000">
    <p:pull dir="d"/>
    <p:sndAc>
      <p:stSnd>
        <p:snd r:embed="rId2" name="camera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2"/>
          <p:cNvSpPr/>
          <p:nvPr/>
        </p:nvSpPr>
        <p:spPr>
          <a:xfrm>
            <a:off x="642960" y="164304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ДИ ОБРАЗОВАЊА И СТРУЧНОГ УСАВРШАВАЊ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чно образовањ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ионално образовање (након 12-годишњег општег и/или стручног образовањ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ње школе, високе школе, факулте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годишњи течај за асистента сестр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8000">
    <p:pull dir="d"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2"/>
          <p:cNvSpPr/>
          <p:nvPr/>
        </p:nvSpPr>
        <p:spPr>
          <a:xfrm>
            <a:off x="642960" y="1643040"/>
            <a:ext cx="8072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СТРУЧНО ОБРАЗОВАЊЕ СЕСТАРА ОБЕЗБЕЂУЈЕ УСЛОВЕ З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о професионално бављење здравственом нег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ћу улогу у сестринској дела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ве у образовању сопственог кад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ове у области јавног здрављ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но учешће у интердисцплинарним и мултисекторским тимовима који се баве сложеним питањима здравствене заштите становниш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ље образовање и стицање академских звања (мастер, доктор сестринских нау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0000">
    <p:pull dir="d"/>
    <p:sndAc>
      <p:stSnd>
        <p:snd r:embed="rId2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928800" y="1428840"/>
            <a:ext cx="757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ЈСКИ РАЗВОЈ ЗДРАВСТВЕНЕ НЕ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ренс Најтингејл (1820-19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ла прве уџбен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ла прву сестринску заклет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ла фонд за образовање и развој сестр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0. болниц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. Toma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Лондону (прва школа за медицинске сестре у све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ља Црвеног крста носи њено име – највеће светско признање на пољу сестрин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40000">
    <p:pull dir="d"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2"/>
          <p:cNvSpPr/>
          <p:nvPr/>
        </p:nvSpPr>
        <p:spPr>
          <a:xfrm>
            <a:off x="571680" y="1357200"/>
            <a:ext cx="8072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О СТРУЧНО УСАВРШАВАЊЕ НОЦИОСА СЕСТРИНСКЕ ДЕЛТА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ни облици усавршавањ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разовањ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ирано стручно усавршавање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зумева стицање нових знања и вештина кроз стално праћење развоја сестринске и других струка у здравству, праћење стручне сестринске  литературе, нових технологија и иновација, размену искуства у струци, као и стручно усавршавање са провером теоријског и практичног знањ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ИНАРИ, КУРСЕВЕИ, СТРУЧНИ САСТАНЦ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7000">
    <p:pull dir="d"/>
    <p:sndAc>
      <p:stSnd>
        <p:snd r:embed="rId2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571680" y="1357200"/>
            <a:ext cx="807228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А МЕДИЦИНСКА ЕДУКАЦИЈА КМ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је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и обавеза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ог здравственог радника да се непрекидно стручно усавршава и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 од услова за обнову лиценц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реба за КМЕ је настала као последица сталних новина у медцини као науци, као и увођења нових технологија у терапији, дијагностици и здравственој нези. Она је неопходна (обавезна)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ве здравствене радник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јер обезбеђује праћење и реформу образовног и здравственог система према препорукама СЗО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2000">
    <p:pull dir="d"/>
    <p:sndAc>
      <p:stSnd>
        <p:snd r:embed="rId2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2"/>
          <p:cNvSpPr/>
          <p:nvPr/>
        </p:nvSpPr>
        <p:spPr>
          <a:xfrm>
            <a:off x="571680" y="1357200"/>
            <a:ext cx="8072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А МЕДИЦИНСКА ЕДУКАЦИЈА КМ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је као појам прихваћен у Србији из енглеског језика као дословни превод оригинала (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ing Medical Education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се од обазовних активности које служе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е одржи, развије или повећа знање, вештине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фесионална достигнућа и односи које лекар и остало здравствено особље користи да пружи услуге пацијентима, јавности или професији. КМЕ представљ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уп знања и вештина опште признатих и прихваћених од стране стручне јавности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квиру основних медицинских наука, клиничке медицине и пружања здравствене неге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2"/>
          <p:cNvSpPr/>
          <p:nvPr/>
        </p:nvSpPr>
        <p:spPr>
          <a:xfrm>
            <a:off x="571680" y="1357200"/>
            <a:ext cx="807228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А МЕДИЦИНСКА ЕДУКАЦИЈА КМ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према Закону о здравственој заштити Републике Србије подразуме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.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шће здравствених радника на стручним и научним скуповима и учешће на семинарима, курсевима и другим програмима континуиране едукације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система стручног усавршавања, који се практично завршпавао стручном специјализацијом и/или ужом специјализацијом, КМЕ је уведена у многим земљама света, а од 2008. године и у Србији и обавезна је за све здравствене радни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2"/>
          <p:cNvSpPr/>
          <p:nvPr/>
        </p:nvSpPr>
        <p:spPr>
          <a:xfrm>
            <a:off x="642960" y="928800"/>
            <a:ext cx="8072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УИРАНА МЕДИЦИНСКА ЕДУКАЦИЈА КМ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 систем КМЕ обезбеђује се да најновиа знања и најсавременије технике лечења буду пренесене кроз допунски и стални облик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ног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свршавање унутар матичне установе) или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ерног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усавршавање у другим установама или на стручним скуповима) лекарима и медицинским техничарима, и има за циљ да подигне ниво стручног знања и унапреди квалитет здравственог збрињавања у свим облицима здравствене заштите и свакодневној пракс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зници семинара, курсева, стручних скупова у зависности од нивоа презентованих знања добијају одређени број поена (бодова). Сваки здравствени радник има обавезу да одређеном периоду сакупи одређени број поена како би могао д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и лиценци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настави са обављањем своје пракс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642960" y="928800"/>
            <a:ext cx="8072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ЊЕ И УСАВРШАВАЊЕ СЕСТРИНСКОГ КАД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инска служба – служба здравствене неге треба да сачини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шњи план образовања и стручног усавршавањ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вршиоца сестринске делатности ради обезбеђивања средстава у буџету установе и плаћеног одсу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ално изводи целокупну теорисјку и практичну наставу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естринских предмета у средњим и високошколским образовним установама, за сестре и друге здравствене раднике, у скалду са законским прописи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2"/>
          <p:cNvSpPr/>
          <p:nvPr/>
        </p:nvSpPr>
        <p:spPr>
          <a:xfrm>
            <a:off x="642960" y="928800"/>
            <a:ext cx="8072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Е КОМПЕТЕНТ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РШИОЦА ЗДРАВСТВЕНЕ НЕ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ик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стра или здравствени техничар на приправничком стаж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ршилац ограничене компетентности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дравствени техничар који ради мање сложене послове самостално и учествујуе у сложениј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а сестра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ди успешно и самостално сложене послове струке, учествују у тимском раду и доношењу професионалних одлу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 компетентна сестра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ди самостално и дуже време све послове струке, бави се организацијом и руковођењем и усавршавањем сестара у датој области, учествују у мултисекторским тимовим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2"/>
          <p:cNvSpPr/>
          <p:nvPr/>
        </p:nvSpPr>
        <p:spPr>
          <a:xfrm>
            <a:off x="642960" y="928800"/>
            <a:ext cx="807228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Е КОМПЕТЕНТ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РШИОЦА ЗДРАВСТВЕНЕ НЕ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– експерт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а солидно стручно образовање, богато стручно искуство, широк увид у сестринство, развијену осетљивост и флексибилност у сагледавању питања праксе, па може брзо и лако да препозна и режи проблем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1" name="camera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Oval 1"/>
          <p:cNvSpPr/>
          <p:nvPr/>
        </p:nvSpPr>
        <p:spPr>
          <a:xfrm>
            <a:off x="1714680" y="1214280"/>
            <a:ext cx="5214600" cy="4857840"/>
          </a:xfrm>
          <a:prstGeom prst="ellipse">
            <a:avLst/>
          </a:prstGeom>
          <a:solidFill>
            <a:srgbClr val="feffc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3"/>
          <p:cNvSpPr/>
          <p:nvPr/>
        </p:nvSpPr>
        <p:spPr>
          <a:xfrm>
            <a:off x="2000160" y="2500200"/>
            <a:ext cx="2357640" cy="13575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traight Connector 5"/>
          <p:cNvSpPr/>
          <p:nvPr/>
        </p:nvSpPr>
        <p:spPr>
          <a:xfrm flipH="1">
            <a:off x="4357440" y="2428200"/>
            <a:ext cx="2214360" cy="1428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7"/>
          <p:cNvSpPr/>
          <p:nvPr/>
        </p:nvSpPr>
        <p:spPr>
          <a:xfrm>
            <a:off x="4357800" y="3857760"/>
            <a:ext cx="71280" cy="2143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858000" y="1714680"/>
            <a:ext cx="228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ременска дистрибуција радних активности водеће медицинске сестре (експер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3429000" y="207180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чни 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2214720" y="385776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на актив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4572000" y="3929040"/>
            <a:ext cx="214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и посл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13"/>
          <p:cNvCxnSpPr/>
          <p:nvPr/>
        </p:nvCxnSpPr>
        <p:spPr>
          <a:xfrm flipH="1" flipV="1">
            <a:off x="6214680" y="4500000"/>
            <a:ext cx="71496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5" name="Straight Arrow Connector 15"/>
          <p:cNvCxnSpPr>
            <a:endCxn id="121" idx="2"/>
          </p:cNvCxnSpPr>
          <p:nvPr/>
        </p:nvCxnSpPr>
        <p:spPr>
          <a:xfrm flipH="1" flipV="1">
            <a:off x="4249080" y="2471400"/>
            <a:ext cx="2680200" cy="24580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6" name="Straight Arrow Connector 17"/>
          <p:cNvCxnSpPr/>
          <p:nvPr/>
        </p:nvCxnSpPr>
        <p:spPr>
          <a:xfrm flipH="1" flipV="1">
            <a:off x="3928680" y="4142880"/>
            <a:ext cx="3000960" cy="8582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p:transition>
    <p:pull dir="d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2"/>
          <p:cNvSpPr/>
          <p:nvPr/>
        </p:nvSpPr>
        <p:spPr>
          <a:xfrm>
            <a:off x="928800" y="1428840"/>
            <a:ext cx="757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ИДЕЈЕ ДО ПРВЕ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. г. писмени предлог архимандрита Гаврила председнику одбора Србије за школство (није се остварило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тада постојало 25 среских и окружних болниц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0. болниц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. Toma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Лондону (прва школа за медицинске сестре у свет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9. г. прва школа за баб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ослобађања Србије, после балканских ратова и првог светског рата, формиране школе за нуди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сија добровољних лекара и сестара савезничких земаља (Енглеске, Шведске, Холандије, Норвешке...) – обогатили знање и иску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Audio 2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45000">
    <p:pull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857160" y="2286000"/>
            <a:ext cx="7572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 ШКОЛЕ У ЈУГОСЛАВ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1. г. – прва школа за нудиље у Београду и Загре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23. г. – прва школа за нудиље у Љубљ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37. г. – прва школа за нудиље у Скопљ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другог светског рата отварају се многе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9000">
    <p:pull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2"/>
          <p:cNvSpPr/>
          <p:nvPr/>
        </p:nvSpPr>
        <p:spPr>
          <a:xfrm>
            <a:off x="857160" y="1643040"/>
            <a:ext cx="7572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 ШКОЛЕ У ЈУГОСЛАВ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м америчке мисије почетком 1922. године у Бајиној Башти је организована полугодишња школа за помоћно здравствено особље “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за чуварице здрављ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да би по прозвођењу прве класе била премештена у Ваљево и почела да ради под називом “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за нудиље и чуварице здрављ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штва Црвеног крста Срба, Хрвата и Словенац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типа интерната – 10 класа; 120 квалификованих нудиља које су се запошљавале широм тадашње Краљев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udio 2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6000">
    <p:pull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857160" y="1643040"/>
            <a:ext cx="7572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У У РАЗВОЈУ СЕСТРИН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ЕРИОД - прелазак лечења из сакралних институција у грађанске болни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ЕРИОД -  школовање и професионализација (Ф. Најтингејл, В. Хендер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ЕРИОД  - високо образовање (у САД и Европи се отварају колеџи за медицинске сестр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период – савремено сестринство (процес који тра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2000">
    <p:pull dir="d"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2"/>
          <p:cNvSpPr/>
          <p:nvPr/>
        </p:nvSpPr>
        <p:spPr>
          <a:xfrm>
            <a:off x="857160" y="1643040"/>
            <a:ext cx="7572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ВРЕМЕНО СЕСТРИ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иће се промене о којима се може само слути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сестре се образовањем и искуством припремати за предстојеће про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сестре као професионални кадрови су високо значајан и хуман ресурс на пољу здравља и здравствене заш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е сестре морају бити прихваћене и неговане као опште до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25000">
    <p:pull dir="d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785880" y="1214280"/>
            <a:ext cx="7572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ЈА СЗО “ЗДРАВЉЕ ЗА СВЕ ДО 200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ње основних профила здравствених радника до вр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е здраве пијаће воде и елементарне хигиј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е довољно хране и здраве исх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а заштита мајке и детета и смањење смртности де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 4 водеће болести (у одређеној популациј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радикација заразн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е добре вакц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збеђење основних ле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31000">
    <p:pull dir="d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2"/>
          <p:cNvSpPr/>
          <p:nvPr/>
        </p:nvSpPr>
        <p:spPr>
          <a:xfrm>
            <a:off x="785880" y="1928880"/>
            <a:ext cx="757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ЈА СЗО “ЗДРАВЉЕ ЗА СВЕ ДО 200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декларације: подизање одговорности према здрављу и постизање позитивних промена у здравственом понашању људи и стилу жив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аија представља свеопшти цивилизацијски покрет за здрављ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advTm="15000">
    <p:pull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HOME</cp:lastModifiedBy>
  <dcterms:modified xsi:type="dcterms:W3CDTF">2021-01-28T19:36:52Z</dcterms:modified>
  <cp:revision>68</cp:revision>
  <dc:subject/>
  <dc:title>Slide 1</dc:title>
</cp:coreProperties>
</file>